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F50-01CA-48D7-8E59-DFE9DD3F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FEB-24FA-4978-8D81-62B0E345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754-639B-4E95-9A46-DFB05086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B87-432B-44D0-9C1F-9BF02EA9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9D1-F83E-4DF2-8AE8-E28625FD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AC2-F733-49EF-A90C-8FC008D9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C00-034C-4FD2-B3CD-149B665D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780-4393-46FE-A11F-243BBF6D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099-68A3-412D-85BA-E72A650C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82F-9245-481F-8B46-B5C32E0A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FCC-0E28-478A-9F75-7B1B37B0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060-BC89-444A-B1BD-441FF5F5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FEDA-A58E-4148-A3EF-F6D1B0C2E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4267080"/>
          </a:xfrm>
          <a:prstGeom prst="rect">
            <a:avLst/>
          </a:prstGeom>
          <a:solidFill>
            <a:srgbClr val="d0cdd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 LESSON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N ESSA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10080" y="4419720"/>
            <a:ext cx="3353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0842" t="17668" r="21690" b="4638"/>
          <a:stretch/>
        </p:blipFill>
        <p:spPr>
          <a:xfrm>
            <a:off x="0" y="457200"/>
            <a:ext cx="91440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380880" cy="206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2728" t="0" r="2728" b="0"/>
          <a:stretch/>
        </p:blipFill>
        <p:spPr>
          <a:xfrm>
            <a:off x="0" y="1066680"/>
            <a:ext cx="91440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8020" r="-2569" b="0"/>
          <a:stretch/>
        </p:blipFill>
        <p:spPr>
          <a:xfrm>
            <a:off x="0" y="1676520"/>
            <a:ext cx="914400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4714" t="2641" r="1030" b="0"/>
          <a:stretch/>
        </p:blipFill>
        <p:spPr>
          <a:xfrm>
            <a:off x="0" y="1055520"/>
            <a:ext cx="914400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20:21:44Z</dcterms:created>
  <dc:creator>nbdoe</dc:creator>
  <dc:description/>
  <dc:language>en-US</dc:language>
  <cp:lastModifiedBy>nbdoe</cp:lastModifiedBy>
  <dcterms:modified xsi:type="dcterms:W3CDTF">2007-04-06T20:37:09Z</dcterms:modified>
  <cp:revision>2</cp:revision>
  <dc:subject/>
  <dc:title>MINI LESSON   WRITING AN ESSAY  PART 2</dc:title>
</cp:coreProperties>
</file>